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DAB-9A5C-4DA8-99DB-C40FCE42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E58-F180-4034-B1C0-00BB4745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519-807B-4308-A881-8A0892FB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3F4-0D26-478E-8818-40CCD376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F2D-0541-4824-B909-246DD905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133-5AED-4123-AAA8-A4E7DB4E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115-1B6E-4A3A-A2BB-5B76254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889-59FB-4275-AAAA-DAC4E1E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655-EBE1-433E-AB3A-EC4610C4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4FE-B4C9-4ED2-98BA-E99CABC8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BB2-707E-494B-8329-EE69CEA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EAC-BC6B-4471-99C0-6ED229E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13A0-4515-44FA-B331-3F3812364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awker.com/assets/images/gawker/2008/01/20061128135051_tracymorganwenn_2.jpg&amp;imgrefurl=http://gawker.com/tag/tracy-morgan/&amp;usg=__hbfhNiaDX0m_GE6bYvT6uS2rZM8=&amp;h=228&amp;w=185&amp;sz=39&amp;hl=en&amp;start=3&amp;sig2=2j85JtEBD2Ja2TYUGMaQsA&amp;tbnid=5-qgZlLEECgEYM:&amp;tbnh=108&amp;tbnw=88&amp;prev=/images%3Fq%3Dtracy%2Bmorgan%26gbv%3D2%26ndsp%3D20%26hl%3Den%26sa%3DN%26ie%3DUTF-8&amp;ei=nATqScXQM4_MMs-WmdQ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le.com/var/ezflow_site/storage/images/elle/entertainment/books/elizabeth-gilbert/3365254-1-eng-US/Elizabeth-Gilbert_articleimage.jpg&amp;imgrefurl=http://www.elle.com/Entertainment/Books/Elizabeth-Gilbert&amp;usg=__4w6Pz9j-3sz_mSxC3IOOqEHcOeM=&amp;h=385&amp;w=325&amp;sz=46&amp;hl=en&amp;start=48&amp;sig2=XuB1cIQO4ebjrjF7VSwl9g&amp;tbnid=ZjGImi7DrwZubM:&amp;tbnh=123&amp;tbnw=104&amp;prev=/images%3Fq%3Delizabeth%2Bgilbert%26gbv%3D2%26ndsp%3D20%26hl%3Den%26sa%3DN%26start%3D40%26ie%3DUTF-8&amp;ei=mgHqSe3PNoi6M-3w2cw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ssets.mog.com/pictures/wikipedia/293046/800px-54322834_35515490cb.jpg&amp;imgrefurl=http://mog.com/music/Aimee_Mann/photos&amp;usg=__N9KK_-Rw5koxoI70Nnihmw8ez7M=&amp;h=600&amp;w=800&amp;sz=58&amp;hl=en&amp;start=3&amp;sig2=sY8VStUF2_9DTIToYkizpQ&amp;tbnid=Dn4Ojk9iIDBuoM:&amp;tbnh=107&amp;tbnw=143&amp;prev=/images%3Fq%3Daimee%2Bmann%26gbv%3D2%26ndsp%3D20%26hl%3Den%26sa%3DN%26ie%3DUTF-8&amp;ei=SgjqSZ-vCaK0NcOU5eE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uthenticorganizations.com/wp-content/uploads/2008/11/image2.png&amp;imgrefurl=http://authenticorganizations.com/harquail/2008/11/13/if-stephen-colbert-were-the-ceo-of-zappos-explaining-a-layoff-to-your-employees/&amp;usg=__Cq-i2w67qRHNs5LxQyLUQR1x-Qc=&amp;h=336&amp;w=367&amp;sz=287&amp;hl=en&amp;start=19&amp;sig2=pBT1Yh03o-y3N9NDh4olqA&amp;tbnid=VjphTL7tPxu3gM:&amp;tbnh=112&amp;tbnw=122&amp;prev=/images%3Fq%3Dstephen%2Bcolbert%2Bthe%2Bword%26gbv%3D2%26hl%3Den%26ie%3DUTF-8&amp;ei=TgHqSbGDKaTwMsi24cw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inavivinetto.files.wordpress.com/2008/12/hemingway.jpg&amp;imgrefurl=http://ginavivinetto.wordpress.com/2008/12/31/ernest-hemingway-wore-girl-clothes/&amp;usg=__85uEfO7rQgXLI0q1ps3qXZ1R4S4=&amp;h=628&amp;w=485&amp;sz=39&amp;hl=en&amp;start=1&amp;sig2=Uuf3aCNnk8pcvrLbW-8C_w&amp;tbnid=U77RY_3YSOw26M:&amp;tbnh=137&amp;tbnw=106&amp;prev=/images%3Fq%3Dhemingway%26gbv%3D2%26hl%3Den%26ie%3DUTF-8&amp;ei=7gDqSeeDKYq-M72X_d8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ot Quite What I was Planning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ix-Word Memo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Writers Famous &amp; Obs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. By Smith 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nerd ki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 nerd adu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J. William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end of normal stre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y M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04920"/>
            <a:ext cx="13888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army. Came out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 boo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an Baume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thought I was someone el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sa Good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 see world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 write st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Gil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990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big butts. Can’t li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R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ope to outlive my regr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Lo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ldn’t cop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I wrote so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ee 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191120"/>
            <a:ext cx="13622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 true lov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ed someone el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jorn St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ell hamburgers and french fr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ma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cats. Still sing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surpr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sti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12160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een years since last professional hairc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E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1520" y="380880"/>
            <a:ext cx="12668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colons; I use them to ex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ing in apartment knitting against de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rie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rite because I can’t sle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Mez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8002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Harvard, had baby with crackh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Templ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een years ol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still unt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Gidw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, I thought it was fun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Co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257800"/>
            <a:ext cx="1162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rush on Susan Sarandon. Unrequi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y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emely responsibl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ly longed for spontane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ra Jen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ale: baby sho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wo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Heming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029200"/>
            <a:ext cx="10098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ca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ys deaf boyfriend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’re too qui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a Jane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6:31:03Z</dcterms:created>
  <dc:creator>s</dc:creator>
  <dc:description/>
  <dc:language>en-US</dc:language>
  <cp:lastModifiedBy>s</cp:lastModifiedBy>
  <dcterms:modified xsi:type="dcterms:W3CDTF">2009-04-18T18:45:41Z</dcterms:modified>
  <cp:revision>11</cp:revision>
  <dc:subject/>
  <dc:title>Not Quite What I was Planning:  Six-Word Memoirs</dc:title>
</cp:coreProperties>
</file>